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84A-4CA8-404C-8388-4CF809C6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9E1-541B-4486-A49A-12504FDE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974-E786-4EB1-A74C-AEEB657B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1F0-460F-45CE-921B-BB587599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301-72B0-4A8D-AAB8-ABF2A1A1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007-3375-4225-951A-D7D76AF5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8B7-C405-4271-A300-1B97BFB6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13C-DBB4-4328-9C76-AD9934A6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E1F-56DA-4B58-A0B7-10CF2021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42B-7057-4827-9581-7BCFA46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BA5-5334-4DB2-AE15-6AE5B9C6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DDF-C11B-4A9E-BB2E-8C05437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860B-B695-46F6-832F-2D08517B1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1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3:10Z</dcterms:created>
  <dc:creator>Anon Anon</dc:creator>
  <dc:description/>
  <dc:language>en-US</dc:language>
  <cp:lastModifiedBy>Anon Anon</cp:lastModifiedBy>
  <dcterms:modified xsi:type="dcterms:W3CDTF">2005-08-09T05:25:22Z</dcterms:modified>
  <cp:revision>11</cp:revision>
  <dc:subject/>
  <dc:title>PowerPoint Presentation</dc:title>
</cp:coreProperties>
</file>